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8E90F-068A-4261-A384-EA4137D000B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earners might need to listen 2 or 3 times to th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DEBD2-DCA5-4FD4-B709-410BF4B034C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t then end, all letters could be stuck to the wall, all learners read them all and decide which one is the best, and send i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F79FE-B31B-41DB-8DE1-BEC3063B34C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is lesson will take 1 – 3 hours, depending on needs of learners: speaking (10 – 20 mins); vocabulary (10 – 30 mins); reading (10 – 30 mins); grammar (10 – 30 mins); listening (10 – 30 mins); writing (20 – 40 mins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42408-6C06-41C9-AC95-D63F07E25A6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You can monitor for errors and get learners to correct these after the discuss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102E0-D6CD-4055-8D8F-D61A0442822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oncept-check phrases before or after learners discuss / categorize them. You can elicit and add word / phrase stress too, and drill phrases if necessary. Learners could use dictionaries or computers to check phras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9509C-B2D7-4F61-B688-93A4E41F1EB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You can differentiate by giving learners a choice between reading the easy version or the difficult version. Those who read the easy version can read the original for homewor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71CBA-A007-48E1-8DD4-C6D48F3B6C1A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half sentences could be cut up for learners to match physicall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KEY: 1) c or f;  2) f or c; 3) h ;  4) g; 5) b ;  6) 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6E51A-F075-42EE-86E4-C89EB8319F0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 / 2 / 3 = zero;  4  = 1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st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;  5 / 6 / 7 =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99FE4-3AA1-4655-9B3F-8F689E54BACA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NB: 1, 3 and 5 are second conditionals; 2 and 4 are first condition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E3EB8-E507-4A54-BD5D-C6BBE4840CB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ncourage learners to predict answers to the ques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53BED-159D-4A3B-B92F-6CF3BB5FFB7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109D9-A1DF-4397-A864-9D6879F15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F3123-2050-4797-8634-8E875AAF3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544B8-A100-45E8-A9D1-885CD0ECA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E415E-5D33-4367-A3F7-73BB7D4FB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1385B-3A95-4A11-9A57-CF413546E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7CA95-52F7-4641-A795-833EF8AF6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02280-D607-49A5-A4E1-862D6EE73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AD341-9C3D-45C1-BD1B-C291E9D47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979C6-D710-4157-80F0-66BC8DDCD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64329-28A6-4574-A4C7-D82018BFA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284C9-A54E-485F-B422-CD726B0BB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4F1E0-FF67-4ED1-A6B0-D89CB3995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B985C-5EFA-4F45-A85E-9FF9C32DC261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newint.org/blog/radio-ni/2012/10/30/podcast-john-kirk-cuba-healthcare/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eewiki.newint.org/index.php/Bad_medicine" TargetMode="External"/><Relationship Id="rId2" Type="http://schemas.openxmlformats.org/officeDocument/2006/relationships/hyperlink" Target="http://www.newint.org/features/2012/11/01/healthcare-keynote/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3640" y="2492280"/>
            <a:ext cx="5616360" cy="244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Calibri"/>
              </a:rPr>
              <a:t>Health for the world?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4000" y="5157720"/>
            <a:ext cx="784836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New Internationalist Easier English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Ready Upper-Intermediate Less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http://www.newint.org/issues/457-01-cover.jpg"/>
          <p:cNvPicPr/>
          <p:nvPr/>
        </p:nvPicPr>
        <p:blipFill>
          <a:blip r:embed="rId1"/>
          <a:stretch/>
        </p:blipFill>
        <p:spPr>
          <a:xfrm>
            <a:off x="6227640" y="54000"/>
            <a:ext cx="2808360" cy="39704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" descr="new internationalist logo black on white.jpg"/>
          <p:cNvPicPr/>
          <p:nvPr/>
        </p:nvPicPr>
        <p:blipFill>
          <a:blip r:embed="rId2"/>
          <a:stretch/>
        </p:blipFill>
        <p:spPr>
          <a:xfrm>
            <a:off x="152280" y="22320"/>
            <a:ext cx="6075360" cy="203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ow listen to find the answers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newint.org/blog/radio-ni/2012/10/30/podcast-john-kirk-cuba-healthcare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2" descr="http://www.newint.org/issues/457-01-cover.jpg"/>
          <p:cNvPicPr/>
          <p:nvPr/>
        </p:nvPicPr>
        <p:blipFill>
          <a:blip r:embed="rId2"/>
          <a:stretch/>
        </p:blipFill>
        <p:spPr>
          <a:xfrm>
            <a:off x="6300720" y="2924280"/>
            <a:ext cx="2603520" cy="368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Writing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n groups, write a formal letter to the health minister in your government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Franklin Gothic Heavy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Franklin Gothic Heavy"/>
              </a:rPr>
              <a:t>use some of the phrases we categoriz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Franklin Gothic Heavy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Franklin Gothic Heavy"/>
              </a:rPr>
              <a:t>use some conditional senten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Franklin Gothic Heavy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Franklin Gothic Heavy"/>
              </a:rPr>
              <a:t>use some ideas from the rea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Franklin Gothic Heavy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Franklin Gothic Heavy"/>
              </a:rPr>
              <a:t>use some ideas from the listen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Franklin Gothic Heavy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Franklin Gothic Heavy"/>
              </a:rPr>
              <a:t>proof-read the letter careful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Franklin Gothic Heavy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800" spc="-1" strike="noStrike">
                <a:solidFill>
                  <a:srgbClr val="000000"/>
                </a:solidFill>
                <a:latin typeface="Calibri"/>
              </a:rPr>
              <a:t>This lesson: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b050"/>
                </a:solidFill>
                <a:latin typeface="Calibri"/>
              </a:rPr>
              <a:t>Speaking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: discus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b0f0"/>
                </a:solidFill>
                <a:latin typeface="Calibri"/>
              </a:rPr>
              <a:t>Vocabulary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: categori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00000"/>
                </a:solidFill>
                <a:latin typeface="Calibri"/>
              </a:rPr>
              <a:t>Reading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: researc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7030a0"/>
                </a:solidFill>
                <a:latin typeface="Calibri"/>
              </a:rPr>
              <a:t>Grammar focus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: conditiona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2060"/>
                </a:solidFill>
                <a:latin typeface="Calibri"/>
              </a:rPr>
              <a:t>Listening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: answer ques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Calibri"/>
              </a:rPr>
              <a:t>Writing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: a formal let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Discuss these questions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125360"/>
            <a:ext cx="822960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1001"/>
              </a:spcBef>
              <a:buClr>
                <a:srgbClr val="7030a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7030a0"/>
                </a:solidFill>
                <a:latin typeface="Calibri"/>
              </a:rPr>
              <a:t>How good is healthcare in the world today? And in your country / countries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001"/>
              </a:spcBef>
              <a:buClr>
                <a:srgbClr val="ff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Calibri"/>
              </a:rPr>
              <a:t>How does inequality affect health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001"/>
              </a:spcBef>
              <a:buClr>
                <a:srgbClr val="00b05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b050"/>
                </a:solidFill>
                <a:latin typeface="Calibri"/>
              </a:rPr>
              <a:t>Which countries have the best healthcare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001"/>
              </a:spcBef>
              <a:buClr>
                <a:srgbClr val="0070c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70c0"/>
                </a:solidFill>
                <a:latin typeface="Calibri"/>
              </a:rPr>
              <a:t>What can we do to improve health and healthcare in the world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70c0"/>
                </a:solidFill>
                <a:latin typeface="Calibri"/>
              </a:rPr>
              <a:t>Words and phrases: are these related to </a:t>
            </a:r>
            <a:r>
              <a:rPr b="1" lang="en-GB" sz="4000" spc="-1" strike="noStrike">
                <a:solidFill>
                  <a:srgbClr val="0070c0"/>
                </a:solidFill>
                <a:latin typeface="Calibri"/>
              </a:rPr>
              <a:t>health</a:t>
            </a:r>
            <a:r>
              <a:rPr b="0" lang="en-GB" sz="40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en-GB" sz="4000" spc="-1" strike="noStrike">
                <a:solidFill>
                  <a:srgbClr val="0070c0"/>
                </a:solidFill>
                <a:latin typeface="Calibri"/>
              </a:rPr>
              <a:t>problems</a:t>
            </a:r>
            <a:r>
              <a:rPr b="0" lang="en-GB" sz="4000" spc="-1" strike="noStrike">
                <a:solidFill>
                  <a:srgbClr val="0070c0"/>
                </a:solidFill>
                <a:latin typeface="Calibri"/>
              </a:rPr>
              <a:t> or </a:t>
            </a:r>
            <a:r>
              <a:rPr b="1" lang="en-GB" sz="4000" spc="-1" strike="noStrike">
                <a:solidFill>
                  <a:srgbClr val="0070c0"/>
                </a:solidFill>
                <a:latin typeface="Calibri"/>
              </a:rPr>
              <a:t>solutions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Calibri"/>
              </a:rPr>
              <a:t>health insurance           financial crisis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GB" sz="4200" spc="-1" strike="noStrike">
                <a:solidFill>
                  <a:srgbClr val="000000"/>
                </a:solidFill>
                <a:latin typeface="Calibri"/>
              </a:rPr>
              <a:t>corruption              majority world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Calibri"/>
              </a:rPr>
              <a:t>life expectancy                   vaccination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GB" sz="4200" spc="-1" strike="noStrike">
                <a:solidFill>
                  <a:srgbClr val="000000"/>
                </a:solidFill>
                <a:latin typeface="Calibri"/>
              </a:rPr>
              <a:t>pharmaceutical companies      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4200" spc="-1" strike="noStrike">
                <a:solidFill>
                  <a:srgbClr val="000000"/>
                </a:solidFill>
                <a:latin typeface="Calibri"/>
              </a:rPr>
              <a:t>IMF debt               disease prevention                          indigenous people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Read to find out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179280" y="1341000"/>
            <a:ext cx="885672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asy: </a:t>
            </a:r>
            <a:r>
              <a:rPr b="0" lang="en-GB" sz="2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eewiki.newint.org/index.php/Bad_medici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ifficult: </a:t>
            </a:r>
            <a:r>
              <a:rPr b="0" lang="en-GB" sz="20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www.newint.org/features/2012/11/01/healthcare-keynote/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2" descr="http://www.newint.org/issues/457-01-cover.jpg"/>
          <p:cNvPicPr/>
          <p:nvPr/>
        </p:nvPicPr>
        <p:blipFill>
          <a:blip r:embed="rId3"/>
          <a:stretch/>
        </p:blipFill>
        <p:spPr>
          <a:xfrm>
            <a:off x="2987640" y="2781360"/>
            <a:ext cx="2603520" cy="368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43588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Grammar focus: match these half sentenc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250920" y="1197000"/>
            <a:ext cx="417672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1) If Leela feels ill, ..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2) If she is too tired or ill to work, ..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3) The hospital gets subsidies from the governm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4) But Indians will only believe this ..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5) Now people are talking again about healthcare for all – .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6) Sachs says that if we had a minimal healthcare package, .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7) But it would be more possible .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356000" y="1125000"/>
            <a:ext cx="460872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04000" indent="-504000">
              <a:spcBef>
                <a:spcPts val="649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if it starts to happen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04000" indent="-504000">
              <a:spcBef>
                <a:spcPts val="649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it would cost around $50 – 60 for each person for a yea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04000" indent="-5040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c) she asks one of Preeti’s children for a paracetamol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04000" indent="-5040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d) if earnings were higher and more equal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04000" indent="-5040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f) her son takes her to a doctor for the poo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04000" indent="-5040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g) as if it were a new idea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04000" indent="-5040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h) 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if they promise to keep a few beds for the poo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Now match the completed sentences to these conditional structures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179280" y="1599840"/>
            <a:ext cx="896472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300" spc="-1" strike="noStrike">
                <a:solidFill>
                  <a:srgbClr val="000000"/>
                </a:solidFill>
                <a:latin typeface="Calibri"/>
              </a:rPr>
              <a:t>Zero conditional (facts, if=when):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0070c0"/>
                </a:solidFill>
                <a:latin typeface="Calibri"/>
              </a:rPr>
              <a:t>If + present tense, + present tense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3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en-GB" sz="3300" spc="-1" strike="noStrike" baseline="30000">
                <a:solidFill>
                  <a:srgbClr val="000000"/>
                </a:solidFill>
                <a:latin typeface="Calibri"/>
              </a:rPr>
              <a:t>st</a:t>
            </a:r>
            <a:r>
              <a:rPr b="1" lang="en-GB" sz="3300" spc="-1" strike="noStrike">
                <a:solidFill>
                  <a:srgbClr val="000000"/>
                </a:solidFill>
                <a:latin typeface="Calibri"/>
              </a:rPr>
              <a:t> conditional (future possibility /choices):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c00000"/>
                </a:solidFill>
                <a:latin typeface="Calibri"/>
              </a:rPr>
              <a:t>If + present tense, + future simple (will + infinitive)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3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en-GB" sz="33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1" lang="en-GB" sz="3300" spc="-1" strike="noStrike">
                <a:solidFill>
                  <a:srgbClr val="000000"/>
                </a:solidFill>
                <a:latin typeface="Calibri"/>
              </a:rPr>
              <a:t> conditional (improbability / impossibility):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7030a0"/>
                </a:solidFill>
                <a:latin typeface="Calibri"/>
              </a:rPr>
              <a:t>If + past tense, + conditional tense (would + infinitive)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alibri"/>
              </a:rPr>
              <a:t>(there are other conditionals too, of course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In pairs, complete these sentences with information from the text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f doctors told poor people to get treatment, ..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f poor people have to pay for healthcare, 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f the Indian government spent more money on healthcare than on arms, ..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f people get stressed by not feeling they are part of society, 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f societies were more equal, .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In the text, they talk about healthcare in Cuba – discuss possible answers to these questions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2205000"/>
            <a:ext cx="843588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c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00000"/>
                </a:solidFill>
                <a:latin typeface="Calibri"/>
              </a:rPr>
              <a:t>What is so good about healthcare in Cuba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c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00000"/>
                </a:solidFill>
                <a:latin typeface="Calibri"/>
              </a:rPr>
              <a:t>How does Cuba have money for this healthcar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c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00000"/>
                </a:solidFill>
                <a:latin typeface="Calibri"/>
              </a:rPr>
              <a:t>Do some people (the elite) get better (preferential) treatmen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c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00000"/>
                </a:solidFill>
                <a:latin typeface="Calibri"/>
              </a:rPr>
              <a:t>What difficulties / challenges does healthcare in Cuba still hav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04T10:28:15Z</dcterms:created>
  <dc:creator>Mix</dc:creator>
  <dc:description/>
  <dc:language>en-US</dc:language>
  <cp:lastModifiedBy>Mix</cp:lastModifiedBy>
  <dcterms:modified xsi:type="dcterms:W3CDTF">2012-11-04T15:17:37Z</dcterms:modified>
  <cp:revision>22</cp:revision>
  <dc:subject/>
  <dc:title>Health for the world?</dc:title>
</cp:coreProperties>
</file>